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00AE-EEC9-4DB2-8175-11D468FF7D9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52A8-F0E1-4113-A19F-4C78859DAB9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6E74-E1E4-4843-8CE1-1A9B23BAA47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7C90-E4E4-493B-BA9A-80B255BBEDE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D52C-445C-4E95-B45C-0AF433AC0B7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2A8A-E981-415E-A02A-E81B3ECAEAF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D7AD-E6B2-4F2F-9620-E7E88E9E108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FF96-7F84-43A9-BEA4-902A592FD39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0FC7-E973-4592-B3D3-9E55A7C34C5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1989-3244-435D-8E66-5472DC73FB6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B2E7-8861-4203-8963-33266E03E2F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6AD9-42AA-4F91-B7D2-34BF80660C3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D046-64EB-4850-AAD7-703048E34E1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B9EE-D46B-49FD-BE07-C77FF059440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6E88-D110-4FC6-9302-8621395C31B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7689-7B6D-429A-84FC-1DE7481D1D1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6254-0FA8-473F-9D2C-CA33D5BE90D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FAD6-B0BB-475C-8CF5-3A4E2D598A3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7C41-EB2B-46CB-9E36-6BE26AD0A35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968C-4B05-4397-BE38-469DF903C76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6AED-B5B5-40CB-AFDA-9CA757EDB8E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961A-5160-4CEF-9E72-80D10E76273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6C34-B517-497C-B160-FC422335E06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C852-D4C4-4122-A623-A923342153B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5462-8AD9-4326-94F0-F30AB56C015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3A37-9593-48B7-BE52-A820006573F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2064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ryotypes are described by an internationally recognised form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umber refers to the number of chromosomes whilst the X and Y refer to the sex chromosomes, e.g. 46 XX would be a healthy female,46 XY a healthy ma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after any chromosomal abnormalities or findings are described by recognised abbreviations and location is given of the affected part of the chromos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46,XX,dup(2)(p13p22)   describes a female with 46 chromosomes and a duplication of the short arm of chromosome 2 from bands 13 -2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karyotypes are from an abnormal female. The term "der" refers to a chromosome "derived" from a translocation, or trading of pieces of chromosome between members of different homologous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90B0-40C1-4FDC-9DEE-213FB7418E0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F92C-1EE5-4D1C-B8F2-761762C0E3E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ABCF-241C-4BE4-AD87-155D72FA1CB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57A0-81B1-4670-9D8E-D207E07D109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15A7-6D3A-4D2A-A988-5D283F29707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19A6-AB77-4F45-916F-4CFAA32B0FD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883B-EF4D-4622-A08B-C1B5238A72D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3B3-C778-4C41-97C1-96887F51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380-557C-4D36-A786-EDBFC696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03B6-B0CB-426D-9344-1A390026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901-AF80-4CB1-ADE5-655A8CA8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ED8E-9C8C-41F0-8AE9-C8619F6A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D9AB-36FC-4B8A-B462-D682AD26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3D74-7B70-40CD-8378-10A52ADD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3D08-55D5-4A6C-96D3-04F29BFF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3DE7-665F-4B39-A3B4-165275A8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E2A8-B5F0-4133-81C2-118197D4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1B11-92DB-46C7-B7DD-DC118B10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721-D8D1-4844-A1B8-8270C3E5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8F87-E8FA-4A3F-9303-EA98903C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0B96-5A3A-4B2E-B214-E7BF111E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5B8C-ADEC-4273-A4A7-FCD929CC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CAA4-C37B-4F5D-B36D-7886EF03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C904-34DB-414F-AB69-20C2245C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5316E-25BE-4C71-96B5-D7661AF4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B5799-23D8-417F-AFD1-65BCC75B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91C19-1745-45F8-AC34-CB17C48F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28773-2813-4890-A003-43278585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3CE8E-24EF-413E-80A0-9084BCDB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DD1-AC9D-4B86-841B-DECF69C7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58FEE-31A1-432D-A5F6-8FFD8D60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F4759-A6E8-4C84-B676-F872FF01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4A49F-F21A-4A1D-9088-76FBBF10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AF92A-8D5B-42E6-B978-419529F3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3297A-86EA-42C5-9E99-AB93F1DF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59BF9-993C-4C9E-AE71-98887DB0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A7FABC-DC75-495D-9E9F-77F7BB53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19874-51CF-4A17-AF10-983AC39D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5B6D4-6C59-4173-A302-22FAE9EC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866BF-67FC-4F9E-8AA1-4BBB4FEA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B6FC-404F-4238-8B96-9DBC9B20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2FA11-E8FA-429C-B8B5-6925A065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EBB36-FFC4-4CA5-A135-14DCB14A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D6D09-9F73-44EF-BE2D-EBD94547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AAC2C-C814-49D2-B812-F07BF2E5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10827-512F-4B81-AABF-8697831B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B4A30-5699-4885-B588-DC8CE49D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BCFB3-1F78-4B3D-B70B-FEE8995D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97D9C-0D84-4FBB-BFB5-5FEDC0BB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3F621-3910-4C69-AB2E-0A641325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577BEE-0AA8-4701-AE98-DC2BC393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ED3-1A12-4F7D-A443-7EBC6A26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08342-9E32-410A-894F-1AC9AD63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E7807C-83EA-4B0B-A618-8E62AFAF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B9755-3965-4A9D-B50B-C913B1AF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4589F-5DAC-4523-BA03-252716ED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2A2A83-E70C-4EA1-92B5-25823186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C3E6B-D35D-4085-8605-CB31F4F0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572F9-9703-4AB3-A7DB-45CD810E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42DB36-F55A-4367-B596-14DD65B6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DB68C6-A800-46B7-A75C-860BBED6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3A62B7-5934-48BE-9792-7BF63050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7A9-5769-4451-8287-9715F5D0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2B223-63DE-4ECE-9381-FD89A358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0FDDFD-B414-436B-9416-4E612430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D2A065-B79D-40B3-A712-DFEF77D5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47A8C4-57E5-41CD-B1F3-BBE8EFAA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6E6CC9-401F-4381-84D9-6905C5E1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3BDD0-95DF-4555-950E-AF8D2582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60270-1172-460B-8EE3-510AA419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BA1869-8C0F-4E1A-9135-9B85F803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AB7356-6B8E-4118-BD79-2CDFAA2D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E10DD6-2C7C-4FBC-B0F2-B80322FD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015-94BE-4197-8A8F-DC3AA2EF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B14DF8-7635-407F-965C-AFECB76C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9E001-D2DA-437F-87A6-EEAA0021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A8516-61CE-445E-9307-16EDB3A5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FD1F25-86D9-4B1B-A4CB-C429874C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1AB4D-606B-4B32-A6E0-06F36CFA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A8F9C7-B32C-4324-94A3-6CBC021F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5D557D-6AB6-4943-91CE-1499A0D5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DEC883-8614-4E44-A4F5-D891E39C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F428E7-1414-4DA2-A9CF-3948EA67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62A102-67E8-4216-B22B-134F8C71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C8A-7E5F-4905-91F5-41AE6A71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F4579B-AAC9-4757-A0D4-88C155C5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12E15E-620E-4F88-BC91-96EDFAFB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F199CA-D328-4038-B139-3438BCB2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2F89CF-FAFC-46AB-AFA2-CEEB14BF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EF80F-88A5-4E98-9915-A2F677DE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341F6-F0EA-428B-99F9-EF3235AA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C015B-CF8A-4A88-81F9-02FAAE9A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78B99-4898-4BC4-9366-CF186E24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E781A-09F6-4702-BB30-EDC86E68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017E4-3725-4AAA-BC29-8D153631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A18D-287E-4FF2-A125-9B473C35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A176F-E07F-4FF9-8981-830052C3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D1F23-8E45-41CB-B1F8-8EAA517E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E3590-299B-48B7-B851-68EAEA0E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DC2BA-628D-45A5-819B-32B21D5D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071D8-6C12-4715-A03A-6410F21F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15560-E349-4C1C-BC2E-0AA856BC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FCC62-951C-4FA9-9046-EC4D23E8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C5DC-93AA-4412-9E0F-D35D5F63B718}" type="datetime"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B7FE-0B35-4011-BAD8-044618E44B38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B1A2-B820-47AE-955C-19E512FB4FC4}" type="datetime"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C068-1111-40CF-A379-9127552DC6F8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F32F-3EF0-4530-ADC5-3152172A4F79}" type="datetime"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D9A8-CEB6-47CD-B83F-70364229F3CC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ECD9-B03B-4083-A10D-7941423D5A2B}" type="datetime">
              <a:rPr b="0" lang="en-US" sz="1200" spc="-1" strike="noStrike">
                <a:solidFill>
                  <a:srgbClr val="fff39d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88EE-47E2-425F-A7D2-8449A3BE3FA0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5D56-E1FC-41BC-815C-6C85425B3F9F}" type="datetime"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2BD9-73A1-4CEA-8059-92CF2FC61022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7654-BFEC-49BA-872F-84C4F0CB7124}" type="datetime"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2949-D85B-4B3A-8709-03681DC56FEA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F765-D663-42FA-B72D-EC583E5CE679}" type="datetime"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92B3-CB53-47BA-A6A2-07D8709EFC6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1D07-C891-4A1F-99CC-CE42F2152C3C}" type="datetime"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12AF-1B5B-485C-836D-29B9533E3039}" type="slidenum">
              <a:rPr b="1" lang="fr-F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240" y="2133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CHROMOSOMAL  ANOMALIES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6219-7F27-4E0D-947E-8D489DD90F67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6108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CHROMOSOMAL ABERRATION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etime due to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ut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pontaneou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without any known causal factors)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variation in chromosomal number or structur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ppears in nature: Chromosomal aberratio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romosomal aberration may be grouped into two broad classe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. Structur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2. Numeric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663E-C25E-471F-9525-1E51E1C9F787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75f6d"/>
                </a:solidFill>
                <a:latin typeface="Century Schoolbook"/>
              </a:rPr>
              <a:t>STRUCTURAL CHROMOSOMAL ABERRATIONS 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romosome structure variations result from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chromosome breakag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roken chromosomes tend to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re-join;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f there is more than one break, rejoining occurs at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not necessarily with the correct end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result is structural changes in the chromosomes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romosome breakage is caused by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Century Schoolbook"/>
              </a:rPr>
              <a:t>X-rays,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Century Schoolbook"/>
              </a:rPr>
              <a:t>various chemical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and can also occur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Century Schoolbook"/>
              </a:rPr>
              <a:t>spontaneously</a:t>
            </a:r>
            <a:r>
              <a:rPr b="0" lang="en-US" sz="2400" spc="-1" strike="noStrike">
                <a:solidFill>
                  <a:srgbClr val="ff66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re are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four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mon type of structural aberration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Deletion or Deficienc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Duplication or Repe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Inversio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. Translo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CBA3-CBC4-4930-9A92-D24079974788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onsider a normal chromosome with genes in alphabetical order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a b c d e f g h 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000" spc="-1" strike="noStrike">
                <a:solidFill>
                  <a:srgbClr val="ff9900"/>
                </a:solidFill>
                <a:latin typeface="Century Schoolbook"/>
              </a:rPr>
              <a:t>1. Deletion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part of the chromosome has been removed: 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a b c g h i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entury Schoolbook"/>
              </a:rPr>
              <a:t>2. Dupliction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part of the chromosome is duplicated: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a b c d e f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 e f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 g h 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entury Schoolbook"/>
              </a:rPr>
              <a:t>3. Inversion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part of the chromosome has been re-inserted in reverse order: 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a b c f </a:t>
            </a:r>
            <a:r>
              <a:rPr b="0" lang="en-US" sz="2000" spc="-1" strike="noStrike">
                <a:solidFill>
                  <a:srgbClr val="66ffcc"/>
                </a:solidFill>
                <a:latin typeface="Century Schoolbook"/>
              </a:rPr>
              <a:t>e 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d g h 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entury Schoolbook"/>
              </a:rPr>
              <a:t>4.</a:t>
            </a:r>
            <a:r>
              <a:rPr b="1" lang="en-US" sz="2000" spc="-1" strike="noStrike">
                <a:solidFill>
                  <a:srgbClr val="ff9900"/>
                </a:solidFill>
                <a:latin typeface="Century Schoolbook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Century Schoolbook"/>
              </a:rPr>
              <a:t>Rings: 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 portion of a chromosome has broken off and formed a circle or ring. This can happen with or without loss of genetic material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entury Schoolbook"/>
              </a:rPr>
              <a:t>5. translocation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parts of two non-homologous chromosomes are joined: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f one normal chromosome is 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a b c d e f g h i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and the other chromosome is 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u v w x y z,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en a translocation between them would b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a b c d e f x y z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and 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u v w g h i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55B4-0583-4879-9382-CB45B285A6FB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"/>
          <p:cNvPicPr/>
          <p:nvPr/>
        </p:nvPicPr>
        <p:blipFill>
          <a:blip r:embed="rId1"/>
          <a:stretch/>
        </p:blipFill>
        <p:spPr>
          <a:xfrm>
            <a:off x="152280" y="0"/>
            <a:ext cx="8534520" cy="6324480"/>
          </a:xfrm>
          <a:prstGeom prst="rect">
            <a:avLst/>
          </a:prstGeom>
          <a:ln w="0">
            <a:noFill/>
          </a:ln>
        </p:spPr>
      </p:pic>
      <p:sp>
        <p:nvSpPr>
          <p:cNvPr id="451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87EA-33E5-4849-9DA2-3E365B44FA1C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3BD7-9B30-4CB3-8669-7A1A9C527FC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1657440" y="1309680"/>
            <a:ext cx="5829120" cy="42386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3"/>
          <p:cNvSpPr/>
          <p:nvPr/>
        </p:nvSpPr>
        <p:spPr>
          <a:xfrm>
            <a:off x="152280" y="60948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tructural chromosomal aberration; Ring 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9900"/>
                </a:solidFill>
                <a:uFillTx/>
                <a:latin typeface="Century Schoolbook"/>
              </a:rPr>
              <a:t>Deletion in Human</a:t>
            </a:r>
            <a:r>
              <a:rPr b="1" lang="en-US" sz="2800" spc="-1" strike="noStrike">
                <a:solidFill>
                  <a:srgbClr val="ff99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romosome deletions are usually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letha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even as heterozygot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resulting in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zygotic los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tillbirth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nfant dea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etimes, infants with small chromosome deficiencies however,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surviv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long enough to permit th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abnormal phenotype they expres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E534-1417-428D-8AB4-A879C70E377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Cri-du-chat (Cat cry syndrome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name of the syndrome came from a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catlike mewing cr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from small weak infants with the disord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ther characteristics ar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icrocephal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small head)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broad face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addl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سرج الدابة أو صهوة الفرس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se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physical and mental retardation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ri-du-chat patients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die in infancy or early childhood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chromosome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deficiency is in the short arm of chromosome 5</a:t>
            </a:r>
            <a:r>
              <a:rPr b="1" lang="en-US" sz="2400" spc="-1" strike="noStrike">
                <a:solidFill>
                  <a:srgbClr val="feb687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Myelocytic leukemi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other human disorder that is associated with a chromosome abnormality is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chronic myelocytic leukemi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deletion of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chromosome 2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was described by P.C.Nowell and Hungerford and was called </a:t>
            </a:r>
            <a:r>
              <a:rPr b="1" lang="ja-JP" sz="2400" spc="-1" strike="noStrike">
                <a:solidFill>
                  <a:srgbClr val="ff9900"/>
                </a:solidFill>
                <a:latin typeface="Century Schoolbook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Philadelphia</a:t>
            </a:r>
            <a:r>
              <a:rPr b="1" lang="ja-JP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(Ph</a:t>
            </a:r>
            <a:r>
              <a:rPr b="1" lang="ja-JP" sz="24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hromosom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after the city in which the discovery was mad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entury Schoolbook"/>
              </a:rPr>
              <a:t>Duplication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presence of an additional chromosome segment, as compared to that normally present in a nucleus is known as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Duplic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a diploid organism, presence of a chromosome segment in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ore than two copies per nucleus is called duplic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 types of duplica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Tandem dupli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Reverse tandem dupli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Displaced dupli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. Translocation dupli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1D01-790A-4BF7-B55D-426B0FFEE1D2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extra chromosome segment may be located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immediately after the normal segment in precisely the same orient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forms the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tandem</a:t>
            </a:r>
            <a:r>
              <a:rPr b="1" lang="ar-SA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= </a:t>
            </a:r>
            <a:r>
              <a:rPr b="1" lang="ar-SA" sz="2400" spc="-1" strike="noStrike">
                <a:solidFill>
                  <a:srgbClr val="ff9900"/>
                </a:solidFill>
                <a:latin typeface="Times New Roman"/>
              </a:rPr>
              <a:t>ترادفي – واحد تلو الأخر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n th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gene sequence in the extra segment of a tandem in the reverse ord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.e, inverted , it is known as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tandem duplic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some cases, the extra segment may be located in th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ame chromosome but away from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normal segment – termed as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displaced duplic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additional chromosome segment is located in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a non-homologou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hromosome is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translocation duplic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56E7-D20A-4E27-9D49-C385AD5C2D9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9900"/>
                </a:solidFill>
                <a:uFillTx/>
                <a:latin typeface="Century Schoolbook"/>
              </a:rPr>
              <a:t>Inversion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n a segment of chromosome is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oriented in the reverse dire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such segment said to be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inverte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the phenomenon is termed as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invers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version occur when parts of chromosomes become detached , turn through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are reinserted in such a way that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he genes are in reversed ord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version may be classified into two typ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Century Schoolbook"/>
              </a:rPr>
              <a:t>Pericentric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lude the centrome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Century Schoolbook"/>
              </a:rPr>
              <a:t>Paracentric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not include the centrome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4868-41E9-4947-B9D7-39142CE5FD2B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NUMBER OF CHROMOSOM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ormally, all the individuals of a </a:t>
            </a:r>
            <a:r>
              <a:rPr b="1" lang="en-US" sz="2600" spc="-1" strike="noStrike">
                <a:solidFill>
                  <a:srgbClr val="ff9900"/>
                </a:solidFill>
                <a:latin typeface="Comic Sans MS"/>
              </a:rPr>
              <a:t>species have the same number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f chromosomes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osely related species usually have similar chromosome numbers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esence of a whole sets of chromosomes is called </a:t>
            </a:r>
            <a:r>
              <a:rPr b="1" lang="en-US" sz="2600" spc="-1" strike="noStrike">
                <a:solidFill>
                  <a:srgbClr val="ff9900"/>
                </a:solidFill>
                <a:latin typeface="Comic Sans MS"/>
              </a:rPr>
              <a:t>euploid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t includes haploids, diploids, triploids, tetraploids etc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ametes normally contain only one set of chromosome – this number is called </a:t>
            </a:r>
            <a:r>
              <a:rPr b="1" lang="en-US" sz="2600" spc="-1" strike="noStrike">
                <a:solidFill>
                  <a:srgbClr val="ff9900"/>
                </a:solidFill>
                <a:latin typeface="Comic Sans MS"/>
              </a:rPr>
              <a:t>Haploid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matic cells usually contain two sets of chromosome  - </a:t>
            </a:r>
            <a:r>
              <a:rPr b="1" lang="en-US" sz="2600" spc="-1" strike="noStrike">
                <a:solidFill>
                  <a:srgbClr val="ff9900"/>
                </a:solidFill>
                <a:latin typeface="Comic Sans MS"/>
              </a:rPr>
              <a:t>2n : Diploid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836E-2235-461F-90D1-2C71D7E71E3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4" descr=""/>
          <p:cNvPicPr/>
          <p:nvPr/>
        </p:nvPicPr>
        <p:blipFill>
          <a:blip r:embed="rId1"/>
          <a:srcRect l="0" t="0" r="0" b="4863"/>
          <a:stretch/>
        </p:blipFill>
        <p:spPr>
          <a:xfrm>
            <a:off x="1143000" y="1066680"/>
            <a:ext cx="6861240" cy="45720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0C97-4AD3-4235-8DB4-B65980AB27C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entury Schoolbook"/>
              </a:rPr>
              <a:t>Translocation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egration of a chromosome segment into a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non-homologous chromosom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s known as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transloc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ree type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Simple translo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Shif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Reciprocal transloca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75F5-BF3D-41DB-A257-5B2C206C0BBC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Simple transloc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In this case,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terminal segment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 a chromosome is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integrated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t one end of a non-homologous region.  Simple translocations are rather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rar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Shif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In shift, an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intercalary segment= not terminal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 a chromosome is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integrated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thin a non-homologous chromosome. Such translocations are known in the populations of </a:t>
            </a:r>
            <a:r>
              <a:rPr b="0" i="1" lang="en-US" sz="2400" spc="-1" strike="noStrike">
                <a:solidFill>
                  <a:srgbClr val="ff9900"/>
                </a:solidFill>
                <a:latin typeface="Century Schoolbook"/>
              </a:rPr>
              <a:t>Drosophil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en-US" sz="2400" spc="-1" strike="noStrike">
                <a:solidFill>
                  <a:srgbClr val="ff9900"/>
                </a:solidFill>
                <a:latin typeface="Century Schoolbook"/>
              </a:rPr>
              <a:t>Neurospora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tc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Reciprocal = </a:t>
            </a:r>
            <a:r>
              <a:rPr b="1" lang="ar-SA" sz="2400" spc="-1" strike="noStrike">
                <a:solidFill>
                  <a:srgbClr val="ff9900"/>
                </a:solidFill>
                <a:latin typeface="Times New Roman"/>
              </a:rPr>
              <a:t>تبادلي أو متبادل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transloc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It is produced when two non-homologous chromosomes exchange segments – i.e., segments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reciprocally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ansferred. Translocation of this type is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most common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DBC0-B507-42CF-B602-C678C6EC7BCC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VARIATION IN CHROMOSOME NUMBER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Organism with a complete set of chromosomes is said to be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entury Schoolbook"/>
              </a:rPr>
              <a:t>euploid </a:t>
            </a: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(applies to haploids, diploids, triploids, tetraploids )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entury Schoolbook"/>
              </a:rPr>
              <a:t>Aneuploidy</a:t>
            </a: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 - variation in the number of individual chromosomes (but not the total number of sets of chromosomes)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The discovery of aneuploidy dates back to 1916 when</a:t>
            </a:r>
            <a:r>
              <a:rPr b="0" lang="en-US" sz="2300" spc="-1" strike="noStrike">
                <a:solidFill>
                  <a:srgbClr val="ff9900"/>
                </a:solidFill>
                <a:latin typeface="Century Schoolbook"/>
              </a:rPr>
              <a:t> Bridges</a:t>
            </a: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 discovered XO male and XXY female </a:t>
            </a:r>
            <a:r>
              <a:rPr b="1" i="1" lang="en-US" sz="2300" spc="-1" strike="noStrike">
                <a:solidFill>
                  <a:srgbClr val="ff9900"/>
                </a:solidFill>
                <a:latin typeface="Century Schoolbook"/>
              </a:rPr>
              <a:t>Drosophila</a:t>
            </a: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, which had 7 and 9 chromosomes respectively, instead of normal 8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75BE-AAA3-4928-A04D-0EB85321830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151920" y="1036800"/>
            <a:ext cx="541044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Nullisomy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loss of one homologous chromosome               pair. (e.g., Oat =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نبات الشوفان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Monosomy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– loss of a                single chromosome               (Maize)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Trisomy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 one extra chromosome. (Datura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Tetrasomy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one extra chromosome pai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rcRect l="0" t="0" r="0" b="3778"/>
          <a:stretch/>
        </p:blipFill>
        <p:spPr>
          <a:xfrm>
            <a:off x="4800600" y="914400"/>
            <a:ext cx="4343400" cy="594360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5"/>
          <p:cNvSpPr/>
          <p:nvPr/>
        </p:nvSpPr>
        <p:spPr>
          <a:xfrm>
            <a:off x="380880" y="228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ore about Aneuploi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2BD4-ED4F-45C3-8EC9-5AAEBF46EB14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575f6d"/>
                </a:solidFill>
                <a:uFillTx/>
                <a:latin typeface="Century Schoolbook"/>
              </a:rPr>
              <a:t>TRISOMY IN HUMAN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320" y="761760"/>
            <a:ext cx="8991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entury Schoolbook"/>
              </a:rPr>
              <a:t>Down Syndrom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best known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ost common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romosome related syndrom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merly known as 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Mongolism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866, when a physician named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John Langdon Down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ublished an essay in England in which h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described a set of children with common features who were distinct from other childre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ental retard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he referred to as 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Mongoloid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e child in every 800-1000 births has Down syndr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50,000 in US has Down syndro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cost and maintaining Down syndrome case in US is estimated at $ 1 billion per ye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22C5-A27F-4C32-957B-8271D83A863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151920" y="6094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tients having Down syndrome will b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hort in stature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four feet tall)  and had an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epicanthal fol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broad short skull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wild nostril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large tongue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tubby= </a:t>
            </a:r>
            <a:r>
              <a:rPr b="0" lang="ar-SA" sz="2400" spc="-1" strike="noStrike">
                <a:solidFill>
                  <a:srgbClr val="ff0000"/>
                </a:solidFill>
                <a:latin typeface="Century Schoolbook"/>
              </a:rPr>
              <a:t>قصير و بدين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hand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e babies may hav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hort neck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mall hand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hort fing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y are characterized as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low in mentalit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wn syndrome results if th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extra chromosome is number 2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just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just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EAB7-B0DA-4479-9307-8AE826577BF4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Amniocentesis for Detecting Aneuploidy:-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hromosomal abnormalities are sufficiently well understood to permit genetic counseling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fetus may be checked in early stages of development by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karyotyping the cultured cells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btained by a process called </a:t>
            </a:r>
            <a:r>
              <a:rPr b="1" i="1" lang="en-US" sz="2200" spc="-1" strike="noStrike">
                <a:solidFill>
                  <a:srgbClr val="ff9900"/>
                </a:solidFill>
                <a:latin typeface="Century Schoolbook"/>
              </a:rPr>
              <a:t>amniocentesis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sample of fluid will taken from mother and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fetal cells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re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cultured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after a period of two to three weeks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chromosomes in dividing cells can be stained and observed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f </a:t>
            </a:r>
            <a:r>
              <a:rPr b="0" lang="en-US" sz="2200" spc="-1" strike="noStrike">
                <a:solidFill>
                  <a:srgbClr val="ff9900"/>
                </a:solidFill>
                <a:latin typeface="Century Schoolbook"/>
              </a:rPr>
              <a:t>three No.21 chromosomes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are present, </a:t>
            </a:r>
            <a:r>
              <a:rPr b="0" lang="en-US" sz="2200" spc="-1" strike="noStrike">
                <a:solidFill>
                  <a:srgbClr val="ff9900"/>
                </a:solidFill>
                <a:latin typeface="Century Schoolbook"/>
              </a:rPr>
              <a:t>Down syndrome  is confirmed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 risk for mothers less than 25 years of age to have the trisomy is about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1 in 1500 births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t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40 years of age, 1 in 100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irth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t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45 years 1 in 40 births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E545-D5DD-46A4-9B88-68406CEAED5C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839080" cy="650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Other Syndro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Chromosome Nomenclatur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47, +1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Chromosome formul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2n+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Clinical Syndrom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Trisomy-1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Estimated Frequency Bir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1/20,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Main Phenotypic Characteristic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ental deficiency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deafnes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inor muscle seizur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cleft lip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 cardiac anomal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22EC-6354-46A2-8490-887842B06A88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Other Syndro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Chromosome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Nomenclatur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45, 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Chromosome formul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2n -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Clinical Syndrom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Turn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Estimated Frequency Bir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1/2,500 fema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Main Phenotypic Characteristic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Femal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retarded sexual developmen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usually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teril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hort statur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webbing =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حزام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 skin in neck region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cardiovascular abnormaliti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hearing impairmen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1D6C-1937-4FC7-834B-F3727DF97DB4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8839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3n – triploid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4n – tetraploid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condition in which the chromosomes sets are present in a multiples of </a:t>
            </a:r>
            <a:r>
              <a:rPr b="0" lang="ja-JP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ja-JP" sz="26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2600" spc="-1" strike="noStrike">
                <a:solidFill>
                  <a:srgbClr val="ff9900"/>
                </a:solidFill>
                <a:latin typeface="Comic Sans MS"/>
              </a:rPr>
              <a:t>Polyploidy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hen a change in the chromosome number does not involve entire sets of chromosomes, but only a few of the chromosomes is called </a:t>
            </a:r>
            <a:r>
              <a:rPr b="1" lang="en-US" sz="2600" spc="-1" strike="noStrike">
                <a:solidFill>
                  <a:srgbClr val="ff9900"/>
                </a:solidFill>
                <a:latin typeface="Comic Sans MS"/>
              </a:rPr>
              <a:t>Aneuploidy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Comic Sans MS"/>
              </a:rPr>
              <a:t>Monosomics (2n-1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Comic Sans MS"/>
              </a:rPr>
              <a:t>Trisomics (2n+1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Comic Sans MS"/>
              </a:rPr>
              <a:t>Nullisomics (2n-2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Comic Sans MS"/>
              </a:rPr>
              <a:t>Tetrasomics (2n+2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92C4-79F9-465E-82BD-2EE695E2869B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Other Syndrom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Chromosome Nomenclatur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47, XXY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48, XXXY, 48,XXYY, 49, XXXXY, 50, XXXXX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Chromosome formula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: 2n+1; 2n+2; 2n+2; 2n+3; 2n+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Clinical Syndrome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: Klinefel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Estimated Frequency Birth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: 1/500 male bir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Main Phenotypic Characteristics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Pitched= </a:t>
            </a:r>
            <a:r>
              <a:rPr b="1" lang="ar-SA" sz="2400" spc="-1" strike="noStrike">
                <a:solidFill>
                  <a:srgbClr val="ff0000"/>
                </a:solidFill>
                <a:latin typeface="Century Schoolbook"/>
              </a:rPr>
              <a:t>مش كويس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voice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Male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sub fertile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ith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small testes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developed breasts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feminine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long limbs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2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40EF-CEDA-48A9-BD95-36CA6B322C04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DOSAGE COMPENSATION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ex Chromosomes: females XX, males  X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emales have two copies of every X-linked gene; males have only on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How is this difference in gene dosage compensated for? 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How to create equal amount of X chromosome gene products in males and female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D46D-D0A7-41A0-8314-DCEEB11C507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vels of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enzymes or protein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ncoded by genes on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he X chromosom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re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the same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both males and fem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en though males have 1 X chromosome and females have 2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G6PD, glucose 6 phosphate dehydrogenase gene is carried on the X chromoso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is gene codes for an enzyme that breaks down sug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Females produce the same amount of G6PD enzyme as m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XXY and XXX individuals produce the same amount of G6PD as anyone els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5E32-5AF4-45DE-AF08-2177079C85BE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87631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cells with more than two X chromosomes, only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one X remains genetically activ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all th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others become inactivated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some cells the paternal allele is expressed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other cells the maternal allele is express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XXX and XXXX females and XXY males only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1 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activate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n any given cell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he rest are inactiva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C045-76DF-4529-8399-9B1353C5F2CE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4" descr="0225al"/>
          <p:cNvPicPr/>
          <p:nvPr/>
        </p:nvPicPr>
        <p:blipFill>
          <a:blip r:embed="rId1"/>
          <a:srcRect l="0" t="3000" r="0" b="0"/>
          <a:stretch/>
        </p:blipFill>
        <p:spPr>
          <a:xfrm>
            <a:off x="152280" y="609480"/>
            <a:ext cx="8686800" cy="5410440"/>
          </a:xfrm>
          <a:prstGeom prst="rect">
            <a:avLst/>
          </a:prstGeom>
          <a:ln w="0">
            <a:noFill/>
          </a:ln>
        </p:spPr>
      </p:pic>
      <p:sp>
        <p:nvSpPr>
          <p:cNvPr id="501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1FF1-C8FE-49F7-BC25-6F7B7B2B6EAF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GB" sz="2400" spc="-1" strike="noStrike">
                <a:solidFill>
                  <a:srgbClr val="244583"/>
                </a:solidFill>
                <a:latin typeface="Century Schoolbook"/>
              </a:rPr>
              <a:t>THE KARYOTYPE ; </a:t>
            </a:r>
            <a:r>
              <a:rPr b="1" lang="en-GB" sz="2400" spc="-1" strike="noStrike">
                <a:solidFill>
                  <a:srgbClr val="244583"/>
                </a:solidFill>
                <a:latin typeface="Century Schoolbook"/>
              </a:rPr>
              <a:t>an international description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76320" y="167652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Schoolbook"/>
              </a:rPr>
              <a:t>Karyotypes are described by an internationally recognised forma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A normal male chromosome pattern would be described as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44583"/>
                </a:solidFill>
                <a:latin typeface="Century Schoolbook"/>
              </a:rPr>
              <a:t>4</a:t>
            </a:r>
            <a:r>
              <a:rPr b="1" sz="2200" spc="-1" strike="noStrike">
                <a:solidFill>
                  <a:srgbClr val="244583"/>
                </a:solidFill>
                <a:latin typeface="Century Schoolbook"/>
              </a:rPr>
              <a:t>6,XY</a:t>
            </a:r>
            <a:r>
              <a:rPr b="1" lang="en-GB" sz="2200" spc="-1" strike="noStrike">
                <a:solidFill>
                  <a:srgbClr val="244583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46 =  </a:t>
            </a:r>
            <a:r>
              <a:rPr b="0" sz="2200" spc="-1" strike="noStrike">
                <a:solidFill>
                  <a:srgbClr val="000000"/>
                </a:solidFill>
                <a:latin typeface="Century Schoolbook"/>
              </a:rPr>
              <a:t>total number of chromosom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XY = </a:t>
            </a:r>
            <a:r>
              <a:rPr b="0" sz="2200" spc="-1" strike="noStrike">
                <a:solidFill>
                  <a:srgbClr val="000000"/>
                </a:solidFill>
                <a:latin typeface="Century Schoolbook"/>
              </a:rPr>
              <a:t>sex chromosome constitu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(XY = male, XX = female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Any further description would refer to </a:t>
            </a:r>
            <a:r>
              <a:rPr b="0" lang="en-GB" sz="2000" spc="-1" strike="noStrike">
                <a:solidFill>
                  <a:srgbClr val="ff0000"/>
                </a:solidFill>
                <a:latin typeface="Century Schoolbook"/>
              </a:rPr>
              <a:t>any </a:t>
            </a:r>
            <a:r>
              <a:rPr b="0" sz="2000" spc="-1" strike="noStrike">
                <a:solidFill>
                  <a:srgbClr val="ff0000"/>
                </a:solidFill>
                <a:latin typeface="Century Schoolbook"/>
              </a:rPr>
              <a:t>abnormalities</a:t>
            </a:r>
            <a:r>
              <a:rPr b="0" lang="en-GB" sz="2000" spc="-1" strike="noStrike">
                <a:solidFill>
                  <a:srgbClr val="ff0000"/>
                </a:solidFill>
                <a:latin typeface="Century Schoolbook"/>
              </a:rPr>
              <a:t> or v</a:t>
            </a:r>
            <a:r>
              <a:rPr b="0" sz="2000" spc="-1" strike="noStrike">
                <a:solidFill>
                  <a:srgbClr val="ff0000"/>
                </a:solidFill>
                <a:latin typeface="Century Schoolbook"/>
              </a:rPr>
              <a:t>ariants</a:t>
            </a:r>
            <a:r>
              <a:rPr b="0" lang="en-GB" sz="20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found (see following slide for examples)</a:t>
            </a:r>
            <a:r>
              <a:rPr b="1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5B09-D8FA-48FD-A4A1-7E138A17BAE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228600" y="785880"/>
            <a:ext cx="891540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Total number of chromosomes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66"/>
                </a:solidFill>
                <a:latin typeface="Century Schoolbook"/>
              </a:rPr>
              <a:t>	</a:t>
            </a:r>
            <a:r>
              <a:rPr b="1" sz="2200" spc="-1" strike="noStrike">
                <a:solidFill>
                  <a:srgbClr val="000066"/>
                </a:solidFill>
                <a:latin typeface="Century Schoolbook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entury Schoolbook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Century Schoolbook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Sex chromosome constitution,</a:t>
            </a:r>
            <a:r>
              <a:rPr b="0" sz="2200" spc="-1" strike="noStrike">
                <a:solidFill>
                  <a:srgbClr val="000066"/>
                </a:solidFill>
                <a:latin typeface="Century Schoolbook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66"/>
                </a:solidFill>
                <a:latin typeface="Century Schoolbook"/>
              </a:rPr>
              <a:t>	</a:t>
            </a:r>
            <a:r>
              <a:rPr b="1" sz="2200" spc="-1" strike="noStrike">
                <a:solidFill>
                  <a:srgbClr val="000066"/>
                </a:solidFill>
                <a:latin typeface="Century Schoolbook"/>
              </a:rPr>
              <a:t>	</a:t>
            </a:r>
            <a:r>
              <a:rPr b="1" sz="2200" spc="-1" strike="noStrike">
                <a:solidFill>
                  <a:srgbClr val="000066"/>
                </a:solidFill>
                <a:latin typeface="Century Schoolbook"/>
              </a:rPr>
              <a:t>	</a:t>
            </a:r>
            <a:r>
              <a:rPr b="1" sz="2200" spc="-1" strike="noStrike">
                <a:solidFill>
                  <a:srgbClr val="000066"/>
                </a:solidFill>
                <a:latin typeface="Century Schoolbook"/>
              </a:rPr>
              <a:t>	</a:t>
            </a:r>
            <a:r>
              <a:rPr b="1" sz="2200" spc="-1" strike="noStrike">
                <a:solidFill>
                  <a:srgbClr val="000066"/>
                </a:solidFill>
                <a:latin typeface="Century Schoolbook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Anormalies/vari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entury Schoolbook"/>
              </a:rPr>
              <a:t>46,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ff0000"/>
                </a:solidFill>
                <a:latin typeface="Century Schoolbook"/>
              </a:rPr>
              <a:t>47,XX,+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ff0000"/>
                </a:solidFill>
                <a:latin typeface="Century Schoolbook"/>
              </a:rPr>
              <a:t>47,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ff0000"/>
                </a:solidFill>
                <a:latin typeface="Century Schoolbook"/>
              </a:rPr>
              <a:t>69,X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7598d9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244583"/>
                </a:solidFill>
                <a:latin typeface="Century Schoolbook"/>
              </a:rPr>
              <a:t>45,XX,</a:t>
            </a:r>
            <a:r>
              <a:rPr b="1" lang="en-GB" sz="2000" spc="-1" strike="noStrike">
                <a:solidFill>
                  <a:srgbClr val="244583"/>
                </a:solidFill>
                <a:latin typeface="Century Schoolbook"/>
              </a:rPr>
              <a:t>der</a:t>
            </a:r>
            <a:r>
              <a:rPr b="1" sz="2000" spc="-1" strike="noStrike">
                <a:solidFill>
                  <a:srgbClr val="244583"/>
                </a:solidFill>
                <a:latin typeface="Century Schoolbook"/>
              </a:rPr>
              <a:t>(13;14)(q10;q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244583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244583"/>
                </a:solidFill>
                <a:latin typeface="Century Schoolbook"/>
              </a:rPr>
              <a:t>46,XY,t(2;4)(p12;q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6600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00b0f0"/>
                </a:solidFill>
                <a:latin typeface="Century Schoolbook"/>
              </a:rPr>
              <a:t>46,XX,del(5)(p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b0f0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00b0f0"/>
                </a:solidFill>
                <a:latin typeface="Century Schoolbook"/>
              </a:rPr>
              <a:t>46,XX,dup(2)(p13p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b0f0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00b0f0"/>
                </a:solidFill>
                <a:latin typeface="Century Schoolbook"/>
              </a:rPr>
              <a:t>46,XY,inv(11)(p15q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7030a0"/>
                </a:solidFill>
                <a:latin typeface="Century Schoolbook"/>
              </a:rPr>
              <a:t>46,XY,fra(X)(q27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00b050"/>
                </a:solidFill>
                <a:latin typeface="Century Schoolbook"/>
              </a:rPr>
              <a:t>46,XY/47,X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76320" y="1522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44583"/>
                </a:solidFill>
                <a:latin typeface="Cambria"/>
                <a:ea typeface="Arial"/>
              </a:rPr>
              <a:t>The Karyotype: an international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"/>
          <p:cNvSpPr/>
          <p:nvPr/>
        </p:nvSpPr>
        <p:spPr>
          <a:xfrm>
            <a:off x="762120" y="1214280"/>
            <a:ext cx="571320" cy="1500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5"/>
          <p:cNvSpPr/>
          <p:nvPr/>
        </p:nvSpPr>
        <p:spPr>
          <a:xfrm flipH="1">
            <a:off x="1828440" y="1752480"/>
            <a:ext cx="500040" cy="9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 flipH="1">
            <a:off x="2514240" y="2362320"/>
            <a:ext cx="2500200" cy="785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7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3E08-AB25-4F10-B044-9773A5A7FA8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92F5-C4A1-495E-8E14-3021B598F53E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3"/>
          <p:cNvSpPr/>
          <p:nvPr/>
        </p:nvSpPr>
        <p:spPr>
          <a:xfrm>
            <a:off x="152280" y="609480"/>
            <a:ext cx="8763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he number refers to the number of chromosomes whilst the X and Y refer to the sex chromosomes, e.g. 46 XX would be a healthy female,46 XY a healthy m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hereafter any chromosomal abnormalities or findings are described by recognised abbreviations and location is given of the affected part of the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e.g. 46,XX,dup(2)(p13p22)   describes a female with 46 chromosomes and a duplication of the short arm of chromosome 2 from bands 13 -2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ragile X syndrome; inherited condition characterized by an X chromosome that is abnormally susceptible to damage, especially by folic acid deficiency. The affected individuals tend to have limited intellectual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333360" y="857160"/>
            <a:ext cx="85248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Total number of chromosomes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Sex chromosome constitution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Anomalies/vari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entury Schoolbook"/>
              </a:rPr>
              <a:t>46,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Century Schoolbook"/>
              </a:rPr>
              <a:t>47,XX,+21   </a:t>
            </a:r>
            <a:r>
              <a:rPr b="1" sz="18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i="1" sz="1800" spc="-1" strike="noStrike">
                <a:solidFill>
                  <a:srgbClr val="ff0000"/>
                </a:solidFill>
                <a:latin typeface="Century Schoolbook"/>
              </a:rPr>
              <a:t>Trisomy 21 (Down syndro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Century Schoolbook"/>
              </a:rPr>
              <a:t>47,XXX         </a:t>
            </a:r>
            <a:r>
              <a:rPr b="1" sz="18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0" i="1" sz="1800" spc="-1" strike="noStrike">
                <a:solidFill>
                  <a:srgbClr val="ff0000"/>
                </a:solidFill>
                <a:latin typeface="Century Schoolbook"/>
              </a:rPr>
              <a:t>Triple X syn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Century Schoolbook"/>
              </a:rPr>
              <a:t>69,XXY</a:t>
            </a:r>
            <a:r>
              <a:rPr b="1" sz="18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0" i="1" sz="1800" spc="-1" strike="noStrike">
                <a:solidFill>
                  <a:srgbClr val="ff0000"/>
                </a:solidFill>
                <a:latin typeface="Century Schoolbook"/>
              </a:rPr>
              <a:t>Triploid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598d9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244583"/>
                </a:solidFill>
                <a:latin typeface="Century Schoolbook"/>
              </a:rPr>
              <a:t>45,XX,der(13;14)(p11;q11)  </a:t>
            </a:r>
            <a:r>
              <a:rPr b="1" sz="1800" spc="-1" strike="noStrike">
                <a:solidFill>
                  <a:srgbClr val="244583"/>
                </a:solidFill>
                <a:latin typeface="Century Schoolbook"/>
              </a:rPr>
              <a:t>	</a:t>
            </a:r>
            <a:r>
              <a:rPr b="0" i="1" sz="1800" spc="-1" strike="noStrike">
                <a:solidFill>
                  <a:srgbClr val="244583"/>
                </a:solidFill>
                <a:latin typeface="Century Schoolbook"/>
              </a:rPr>
              <a:t>Robertsonian trans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44583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244583"/>
                </a:solidFill>
                <a:latin typeface="Century Schoolbook"/>
              </a:rPr>
              <a:t>46,XY,t(2;4)(p12;q12) </a:t>
            </a:r>
            <a:r>
              <a:rPr b="1" sz="1800" spc="-1" strike="noStrike">
                <a:solidFill>
                  <a:srgbClr val="244583"/>
                </a:solidFill>
                <a:latin typeface="Century Schoolbook"/>
              </a:rPr>
              <a:t>	</a:t>
            </a:r>
            <a:r>
              <a:rPr b="0" i="1" sz="1800" spc="-1" strike="noStrike">
                <a:solidFill>
                  <a:srgbClr val="244583"/>
                </a:solidFill>
                <a:latin typeface="Century Schoolbook"/>
              </a:rPr>
              <a:t>Reciprocal trans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6600"/>
                </a:solidFill>
                <a:latin typeface="Century Schoolbook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00660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0070c0"/>
                </a:solidFill>
                <a:latin typeface="Century Schoolbook"/>
              </a:rPr>
              <a:t>46,XX,del(5)(p25)   </a:t>
            </a:r>
            <a:r>
              <a:rPr b="1" sz="18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0" i="1" sz="1800" spc="-1" strike="noStrike">
                <a:solidFill>
                  <a:srgbClr val="0070c0"/>
                </a:solidFill>
                <a:latin typeface="Century Schoolbook"/>
              </a:rPr>
              <a:t>Deletion tip of chromosom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0070c0"/>
                </a:solidFill>
                <a:latin typeface="Century Schoolbook"/>
              </a:rPr>
              <a:t>46,XX,dup(2)(p13p22)   </a:t>
            </a:r>
            <a:r>
              <a:rPr b="1" sz="18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0" i="1" sz="1800" spc="-1" strike="noStrike">
                <a:solidFill>
                  <a:srgbClr val="0070c0"/>
                </a:solidFill>
                <a:latin typeface="Century Schoolbook"/>
              </a:rPr>
              <a:t>Duplication of part of short arm Ch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0070c0"/>
                </a:solidFill>
                <a:latin typeface="Century Schoolbook"/>
              </a:rPr>
              <a:t>46,XY,inv(11)(p15q14)   </a:t>
            </a:r>
            <a:r>
              <a:rPr b="1" sz="18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0" i="1" sz="1800" spc="-1" strike="noStrike">
                <a:solidFill>
                  <a:srgbClr val="0070c0"/>
                </a:solidFill>
                <a:latin typeface="Century Schoolbook"/>
              </a:rPr>
              <a:t>Pericentric inversion chromosome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7030a0"/>
                </a:solidFill>
                <a:latin typeface="Century Schoolbook"/>
              </a:rPr>
              <a:t>46,XY,fra(X)(q27.3)      </a:t>
            </a:r>
            <a:r>
              <a:rPr b="1" sz="1800" spc="-1" strike="noStrike">
                <a:solidFill>
                  <a:srgbClr val="7030a0"/>
                </a:solidFill>
                <a:latin typeface="Century Schoolbook"/>
              </a:rPr>
              <a:t>	</a:t>
            </a:r>
            <a:r>
              <a:rPr b="0" i="1" sz="1800" spc="-1" strike="noStrike">
                <a:solidFill>
                  <a:srgbClr val="7030a0"/>
                </a:solidFill>
                <a:latin typeface="Century Schoolbook"/>
              </a:rPr>
              <a:t>Fragile X syn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00b050"/>
                </a:solidFill>
                <a:latin typeface="Century Schoolbook"/>
              </a:rPr>
              <a:t>46,XY/47,XXY           </a:t>
            </a:r>
            <a:r>
              <a:rPr b="1" sz="1800" spc="-1" strike="noStrike">
                <a:solidFill>
                  <a:srgbClr val="00b050"/>
                </a:solidFill>
                <a:latin typeface="Century Schoolbook"/>
              </a:rPr>
              <a:t>	</a:t>
            </a:r>
            <a:r>
              <a:rPr b="0" i="1" sz="1800" spc="-1" strike="noStrike">
                <a:solidFill>
                  <a:srgbClr val="00b050"/>
                </a:solidFill>
                <a:latin typeface="Century Schoolbook"/>
              </a:rPr>
              <a:t>Mosaicism normal/Klinefelter syn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44583"/>
                </a:solidFill>
                <a:latin typeface="Cambria"/>
                <a:ea typeface="Arial"/>
              </a:rPr>
              <a:t>The Karyotype: an international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>
            <a:off x="971640" y="1143000"/>
            <a:ext cx="399960" cy="13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8"/>
          <p:cNvSpPr/>
          <p:nvPr/>
        </p:nvSpPr>
        <p:spPr>
          <a:xfrm flipH="1">
            <a:off x="1981080" y="1676520"/>
            <a:ext cx="21600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9"/>
          <p:cNvSpPr/>
          <p:nvPr/>
        </p:nvSpPr>
        <p:spPr>
          <a:xfrm flipH="1">
            <a:off x="2438280" y="2286000"/>
            <a:ext cx="22147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ooter Placeholder 7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1586-7E61-425B-A58B-FCC7ED0BCFE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6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 u="sng">
                <a:solidFill>
                  <a:srgbClr val="244583"/>
                </a:solidFill>
                <a:uFillTx/>
                <a:latin typeface="Century Schoolbook"/>
              </a:rPr>
              <a:t>CHROMOSOMAL FINDINGS IN EARLY MISCARRIAGES = </a:t>
            </a:r>
            <a:r>
              <a:rPr b="1" i="1" lang="ar-SA" sz="2600" spc="-1" strike="noStrike" u="sng">
                <a:solidFill>
                  <a:srgbClr val="244583"/>
                </a:solidFill>
                <a:uFillTx/>
                <a:latin typeface="Century Schoolbook"/>
                <a:cs typeface="Times New Roman"/>
              </a:rPr>
              <a:t>الاجهاض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E81F-32BC-4B55-B6C4-F35C82B41495}" type="slidenum"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152280" y="1143000"/>
            <a:ext cx="8839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2445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44583"/>
                </a:solidFill>
                <a:latin typeface="Cambria"/>
              </a:rPr>
              <a:t>40% apparently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2445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2445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44583"/>
                </a:solidFill>
                <a:latin typeface="Cambria"/>
              </a:rPr>
              <a:t>60% abnormal</a:t>
            </a:r>
            <a:r>
              <a:rPr b="1" lang="en-GB" sz="2400" spc="-1" strike="noStrike">
                <a:solidFill>
                  <a:srgbClr val="244583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Cambria"/>
              </a:rPr>
              <a:t>Trisomy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 (47 chromosomes – one extra)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Cambria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mbria"/>
              </a:rPr>
              <a:t>45,X (45 chromosomes – one missing)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Cambria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Cambria"/>
              </a:rPr>
              <a:t>Triploidy (69 chromosomes – three sets)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Cambria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Tetraploidy (92 chromosomes – four sets)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Other chromosome anomalies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(e.g. structural anomal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611c"/>
                </a:solidFill>
                <a:latin typeface="Comic Sans MS"/>
              </a:rPr>
              <a:t>Organism</a:t>
            </a:r>
            <a:r>
              <a:rPr b="1" lang="en-US" sz="3600" spc="-1" strike="noStrike">
                <a:solidFill>
                  <a:srgbClr val="d2611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d2611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d2611c"/>
                </a:solidFill>
                <a:latin typeface="Comic Sans MS"/>
              </a:rPr>
              <a:t>No. chromosome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a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mpanz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78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r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ck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ldfis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4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uit f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qui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mato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(m), 12(f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rseta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21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quoi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 wor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Line 8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533520" y="228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533520" y="66294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"/>
          <p:cNvSpPr/>
          <p:nvPr/>
        </p:nvSpPr>
        <p:spPr>
          <a:xfrm>
            <a:off x="3657600" y="22860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533520" y="22860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8458200" y="22860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D8AE-58F7-4B52-B426-7903C3BF123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9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611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d2611c"/>
                </a:solidFill>
                <a:latin typeface="Comic Sans MS"/>
              </a:rPr>
              <a:t>Organism</a:t>
            </a:r>
            <a:r>
              <a:rPr b="1" lang="en-US" sz="2800" spc="-1" strike="noStrike">
                <a:solidFill>
                  <a:srgbClr val="d2611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2611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2611c"/>
                </a:solidFill>
                <a:latin typeface="Comic Sans MS"/>
              </a:rPr>
              <a:t>       No. chromosom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ro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ma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bacc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c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z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Haploppus gracilis 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repis capillar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609480" y="114300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>
            <a:off x="609480" y="533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>
            <a:off x="609480" y="594360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1"/>
          <p:cNvSpPr/>
          <p:nvPr/>
        </p:nvSpPr>
        <p:spPr>
          <a:xfrm>
            <a:off x="609480" y="5335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"/>
          <p:cNvSpPr/>
          <p:nvPr/>
        </p:nvSpPr>
        <p:spPr>
          <a:xfrm>
            <a:off x="7848720" y="5335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3"/>
          <p:cNvSpPr/>
          <p:nvPr/>
        </p:nvSpPr>
        <p:spPr>
          <a:xfrm>
            <a:off x="4267080" y="5335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76DB-6B2A-42C3-BEBA-E95A6A7D87B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9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5960" y="-30600"/>
            <a:ext cx="792468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Century Schoolbook"/>
              </a:rPr>
              <a:t>EUCHROMATIN AND HETEROCHROMATIN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romosomes may be identified by regions that stain in a particular manner when treated with various chemical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ral different chemical techniques are used to identify certain chromosomal regions by staining them so that they form 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chromosomal band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exampl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arker band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e generally found ne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centromere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r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ends (telomer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of the chromosome, while other regions do not stain as strongl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position of the dark-staining are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 heterochromatic region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r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 heterochromati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ght staining are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euchromatic region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r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euchromati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t is lightly packed in the form of DNA, RNA, and protein, it is definitely rich in gene concentration and is usually under active transcrip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AE78-4ECE-4CCD-AC43-2B253054DFCB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7631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n the other hand, heterochromatin is a tightly packed form of DNA. It is commonly found on the peripheral areas of the nucleus. According to some studies, there are probably two or more states of heterochromatin.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Inactive satellite sequences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re the main constituents of heterochromatin. The heterochromatin is responsible for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gene regulation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nd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protection of chromosomal integrity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. These roles are made possible because of the dense DNA packing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re are two groups of heterochromati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(i) 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Constitutive = </a:t>
            </a:r>
            <a:r>
              <a:rPr b="1" lang="ar-SA" sz="2200" spc="-1" strike="noStrike">
                <a:solidFill>
                  <a:srgbClr val="000000"/>
                </a:solidFill>
                <a:latin typeface="Century Schoolbook"/>
              </a:rPr>
              <a:t>تأسيسي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nd (ii) 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Facultative = </a:t>
            </a:r>
            <a:r>
              <a:rPr b="1" lang="ar-SA" sz="2200" spc="-1" strike="noStrike">
                <a:solidFill>
                  <a:srgbClr val="000000"/>
                </a:solidFill>
                <a:latin typeface="Century Schoolbook"/>
              </a:rPr>
              <a:t>أختياري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onstitutive heterochromatin remains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permanently in the heterochromatic stage,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i.e., it does not revert to the euchromatic stage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n contrast, facultative heterochromatin consists of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euchromatin that takes on the staining and compactness characteristics of heterochromatin during some phase of development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(Facultative regions can change from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euchromatic to heterochromatic stage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A2B0-2738-4389-A617-9FF5003CD757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n the DNA of a prokaryote, such as E.coli, is isolated, fragmented and centrifuged to equilibrium in a Cesium chloride (CsCl) density gradient, the DNA usually forms a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ingle band in the gradie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 the other hand, CsCl density-gradient analysis of DNA from eukaryotes usually reveals the presence of one large band of DNA (usually called 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Mainband</a:t>
            </a:r>
            <a:r>
              <a:rPr b="0" lang="ja-JP" sz="2400" spc="-1" strike="noStrike">
                <a:solidFill>
                  <a:srgbClr val="ff0000"/>
                </a:solidFill>
                <a:latin typeface="Century Schoolbook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DNA) and one to several small band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small bands are referred to as 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Satellite DNAs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e.g., in Drosophila virilis, contain three distinct satellite DN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9C78-EA3A-4B8D-9157-FB83194B8F7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152280" y="152280"/>
            <a:ext cx="86108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entury Schoolbook"/>
                <a:ea typeface="Arial"/>
              </a:rPr>
              <a:t>Satellite D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CHROMOSOMAL ABERRATION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somatic (2n) and gametic (n) chromosome numbers of a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pecies ordinarily remain constan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is due to the extremely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precise mitotic and meiotic cell divis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atic cells of a diploid species contain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wo copies of each chromosom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which are called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homologous chromosom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ir gametes, therefore contain only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one copy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 each chromosome, that is they contain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one chromosome complement or genom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ach chromosome of a genome contains a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definite numbers and kinds of gen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which are arranged in a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definite sequenc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8129520" y="5715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0830-5062-452A-BF96-7E866622E01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8:51:57Z</dcterms:created>
  <dc:creator>Sony</dc:creator>
  <dc:description/>
  <dc:language>en-US</dc:language>
  <cp:lastModifiedBy>Mohammed Fakhri</cp:lastModifiedBy>
  <dcterms:modified xsi:type="dcterms:W3CDTF">2016-10-10T09:51:39Z</dcterms:modified>
  <cp:revision>71</cp:revision>
  <dc:subject/>
  <dc:title>CHROMOSOE ANOMALIES  &amp; REPLICATION, TRANSCRPITION AND TRANSLATION</dc:title>
</cp:coreProperties>
</file>